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11.jpeg" ContentType="image/jpeg"/>
  <Override PartName="/ppt/media/image5.jpeg" ContentType="image/jpeg"/>
  <Override PartName="/ppt/media/image8.jpeg" ContentType="image/jpeg"/>
  <Override PartName="/ppt/media/image23.png" ContentType="image/png"/>
  <Override PartName="/ppt/media/image21.png" ContentType="image/png"/>
  <Override PartName="/ppt/media/image4.png" ContentType="image/png"/>
  <Override PartName="/ppt/media/image19.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14C7-8F6E-4806-8CA4-B0D199406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8409-121C-4091-852A-FDA0D906C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F76C-0CB7-4CD4-840C-3E9554B7B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65B8-7809-4827-BADD-8312C2C4D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49C1-03DD-40DA-AB3F-FD3AAFA37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F68B-C08E-4AAF-91B8-5049060CA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A715-DBD4-41A5-9C76-99D70C8EB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51F6-D316-476F-BE38-38A773494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0534-A548-4A6A-98CB-53C63A776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4C89-20EC-40E7-BBBA-AFB8BDB42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7922-041F-49E3-BFD1-3C0041989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539F-30B7-4524-8754-F60864770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04A0-7D3E-44E4-9058-BE9A9C3B8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5DE4-6EE2-4FB8-99B0-80D67A809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1679-3586-4D3E-A558-9F2AEFAA6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41C7-6F21-4F8C-A32E-24559EA03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0C1F-EC26-4A8B-89C4-DC97C578E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428E-3069-4D17-98CE-6A8D63919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9182-6C4A-4058-A77F-20B246FF6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94EE-9512-448D-BEFD-2D80C4277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E161-3D31-42A3-8954-0D37DE71B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D2BC-3037-452C-9241-17835049C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EABD-BBEF-4887-95F5-D40C15FD3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EA5C-EF4A-46FE-B9F3-74EEA39BD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F5AD-720E-4238-8A34-03C643CEE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B0D5-3D9B-42C2-9402-2AC81525B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D2D2-A8E8-43DB-BFCC-F75CF2E44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17D4-9F85-4EC8-A1C9-C85D6A1F2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6077-4219-4F58-8107-525FD7C61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31F6-D46C-43E8-9408-5E0283F17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C42F-32B0-4C36-BDEB-192EBA32A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0F28-1964-40A7-899D-4B97722B1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16AA-0DB9-4A3A-83D6-1A9D93F41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3C7B-E0AD-4995-9F19-7FFD5249E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D47F-EEB3-41DE-995A-F8EEDFA21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7733-8EA9-43C1-B4ED-55FFF574D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E6F55-2098-491A-A27F-FF650AF48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9BF3C-442E-4049-AEC4-47ADCA80E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837D7-45C8-4BE7-B5D0-A8B454832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5F7D9-2E6C-4FF3-B225-77E8C4BE8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DB17E-AF8D-4268-98A1-39375BC1A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2CDDA-E258-496E-8B0B-E5BA5F7A0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04695-8BC7-4C17-ABF2-6F78A02AD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BAA8B-0DDE-48DF-BC0D-22B97632C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E790C-3848-4E88-BC3F-2D62DD3D7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C4A3E-FAE6-494B-AD9A-A5D3C0DF7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8A88B-8268-433D-AF52-DF77D61BF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82E0F-295E-4C8D-AE52-9731EEB85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DAD1B-6E0F-4D13-A514-47DEB6CCE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90309-2FC5-4423-B20F-AF94D6573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48D39-7EC0-4092-AA62-FEBB16DB8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B9987-34A9-49F6-8200-5F789FB9A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14761-A66C-4A7D-B592-B5796A7DC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48D3F5-CC8E-4A84-B269-A814DF783E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F74E72-4933-49C7-A1C7-CD81C8ADE3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3E34FD-C6D3-4D5F-B940-2F204FFC2A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C85A8-C0EE-4417-86B7-2F291680BC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E5483-8714-4C31-8924-ED4C76FBA3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EC80A-9685-4304-9829-705DF6079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A5150E-C9B6-4D40-AA92-8ADD6F12E2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AC27FF-2BCE-4071-A10D-71F0C2652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C9532-4EB1-4E75-B736-F3CF1D6D0E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48AC9-8431-4B98-A64C-921633731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BBC933-6C13-4E0B-82B0-75503D54BC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562A50-A5F0-42E4-9514-34234F7359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E0F4A2-7AD6-4191-B688-47BCC3AE7B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76EF20-6747-4125-A6D3-FC5410EBC8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4D15FC-23EC-4E8D-8CB5-D92C0A9DCC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9B9C9-2F38-4C0F-B5E5-A5196B6466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2FA40-127E-4444-98B5-322D9ADA9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EEA155-1E62-4A11-A9B6-CD8781EA7A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F27AA9-9A4E-4321-B718-D51C2CF191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B12D7B-75C0-4A36-AFF5-933C9B11D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E3508-D0FA-484A-B7A0-7347E68207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2E07D-8040-44F8-B588-3ABCD81AA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8B0E3-8FFD-4EFB-8486-7C10EB7066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853AE7-4C87-49C7-B50C-C87C34F624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9869BD-60C8-48A6-8F04-6AC6B2EEEE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0375FF-3FD8-4BBF-914C-FFE66C69D0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6A1436-260D-4383-8814-891DDC1C71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5290D-B7D7-4D6E-98BA-ED1414C12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FCE0E-EBFB-4BAC-A0DE-42B397F935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6EA11F-102C-445A-B3F7-6720554F06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6BBBFA-CD58-4C20-B8C2-3A59191E4F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88202-E4F1-41A7-80B7-0B8AECCAAE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F9DCA4-06DD-4A1C-A976-1D1E7EAA8C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082462-F462-4F99-A833-70CCFCC19B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19ED8A-360A-4259-B711-BAB61AC4BA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8B1A5-C33E-4CD5-AE66-FC5939C7C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C43B78-2EC2-47A8-BB0C-0DA224D7FB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F19753-F6DA-4857-8E3B-CEDDD8BC0D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AE9B9-E411-418D-B8A2-24ECED61A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A8A228-A6A4-4F54-B874-B3E9B53A46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CAEA87-B8B7-4794-A8CF-2CCA8F324E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F14AB3-0996-4595-9437-E9948A1FA5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28FF66-CFEB-42C9-96A6-52A5A85B7E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28DDE4-A9AC-40E9-8566-57C283783A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253A21-7065-4B4A-8481-EB7E069FE5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071E4B-CF40-420B-BEF2-5EEF29A786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DB88C8-9BF0-458E-8D6F-2CD3A81D04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259413-7EA7-4804-8A7C-620E69E1A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066A31-A6FF-4328-A8A5-216C87FA6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27E93-0D65-4E81-88A0-A17CA7B8E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289BB8-8D5E-4A6E-ADC1-8AA739C588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531EB3-A7E1-4F2B-88AB-73F032EA7A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66FCFB-7CEC-4A75-95D1-835CF9655B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DD1F0C-9AC0-4637-9B23-A480815850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1218C4-6DA6-4160-A43F-98BE11E242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258449-96BB-4251-84E9-97E5185B45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1E48AF-269B-43D0-966E-4D593C2977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63D98D-CD5C-4571-B9AA-D599B01013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9F17C4-91D3-4B81-8DDB-F20E75A45B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FF23C-4BBC-4779-AEE5-F0326F952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0E0DF-0752-448F-B03E-37B06F1E7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94D2D6-3590-4C1D-AA27-206A04BB21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CE77C3-A6E8-4619-8ED4-69E0082180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B99226-0EA7-4123-BACD-1522D5E56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56E46D-5FC7-4D6B-916D-ED7A309E86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528637-4A5B-4A82-AD5A-2BE5DC77A5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0DE0F2-FADD-497E-AE76-66B2303F0F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1818F3-74B7-42F7-A208-4CDF55AFED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317EB7-301E-44A5-BAC7-73404660D7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D06C5C-AD23-4021-B0CF-64218C11CE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A1AF8F-E539-4416-8ECE-149DBAE26D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99895-2C6C-46B2-9F12-0DC42F76E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336072-2F68-40EC-B216-EA2699043C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2C5E8-C85D-47D4-B7EC-5BDC2CBA5C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456AB4-1271-42AD-AF09-5075FA6BA4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6A7825-ACBB-46A8-82D2-03F50BFB91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0EA0EB-586A-4D24-98EE-15261E3D64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DC5FBB-57BF-49D9-B565-9A33F27AC6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2D38B9-E0C1-4D05-AE70-2F928E47C3C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FC77-F933-4C88-B38D-18C0133E34F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2520" y="4992120"/>
              <a:ext cx="9141480" cy="1872360"/>
              <a:chOff x="2520" y="4992120"/>
              <a:chExt cx="9141480" cy="1872360"/>
            </a:xfrm>
          </p:grpSpPr>
          <p:pic>
            <p:nvPicPr>
              <p:cNvPr id="52" name="Freeform 18"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4E70-29CB-42B1-8E4C-3D05CF290F2A}"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8B61-4D3A-4FA2-AAFA-051A17473E9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DA99-2D25-4879-9956-F6A22F6A35C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E920-8F9F-40B8-BC1E-A3B64F56D57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9282-0870-4217-AD66-15F3C6B968D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01F6-21DA-48BD-8AFF-B7934126644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12600" y="5784840"/>
            <a:ext cx="3414600" cy="1092240"/>
            <a:chOff x="-12600" y="5784840"/>
            <a:chExt cx="3414600" cy="1092240"/>
          </a:xfrm>
        </p:grpSpPr>
        <p:pic>
          <p:nvPicPr>
            <p:cNvPr id="324" name="Right Triangle 15"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2240"/>
            <a:ext cx="3421080" cy="11095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731F-5590-4B1E-A793-A54AE75194C1}"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31960"/>
            <a:ext cx="8137440" cy="185904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64646"/>
              </a:solidFill>
              <a:latin typeface="Lucida Sans Unicode"/>
            </a:endParaRPr>
          </a:p>
        </p:txBody>
      </p:sp>
      <p:sp>
        <p:nvSpPr>
          <p:cNvPr id="379" name="TextBox 4"/>
          <p:cNvSpPr/>
          <p:nvPr/>
        </p:nvSpPr>
        <p:spPr>
          <a:xfrm>
            <a:off x="1258920" y="260280"/>
            <a:ext cx="655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Lucida Sans Unicode"/>
              </a:rPr>
              <a:t>АКУТНИ МОЖДАНИ ОРГАНСКИ ПСИХОСИНДР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lobalni poremećaj kognicije (perceptivni poremećaji, oštećenje apstraktnog mišljenja i shvatanja sa ili bez prolaznih sumanutosti, ali tipično sa izvesnim stepenom nekoherentnosti, oštećenje neposrednog sećanja i pamćenja svežih događaja, ali sa relativno očuvanim pamćenjem ranijih događaja i dezorijentracija u vremenu a u težim slučajevima u prostoru i prema drugim osobam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sihomotorni poremećaji (hipo ili hiperaktivnost, povećano reakciono vreme, povećani ili sniženi tok govor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remećaj ciklusa spavanje-budnost (insomnija ili obrnuti ciklus spavanje-budnost, uznemirujući snovi ili košmari koji se mogu nastaviti kao halucinacije posle buđenj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mocionalni poremećaji (depresija, anksioznost, strah, razdražljivost, euforija, apatija ili zbunjenos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Lucida Sans Unicode"/>
              </a:rPr>
              <a:t>Finalni uobičajeni put za nastanak delirijuma smatra se da je posledica</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Lucida Sans Unicode"/>
              </a:rPr>
              <a:t>preteranog otpuštanja dopami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Lucida Sans Unicode"/>
              </a:rPr>
              <a:t>manjak u sintezi acetilholi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Lucida Sans Unicode"/>
              </a:rPr>
              <a:t>visoki i niski nivoi serotonina i GABA-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stiče udeo indukovanih citokina streso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leukin (IL) -1</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L – 6</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fero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fa tumorskog markera nekroze </a:t>
            </a:r>
            <a:r>
              <a:rPr b="0" lang="el-GR" sz="2700" spc="-1" strike="noStrike">
                <a:solidFill>
                  <a:srgbClr val="000000"/>
                </a:solidFill>
                <a:latin typeface="Lucida Sans Unicode"/>
              </a:rPr>
              <a:t>α</a:t>
            </a:r>
            <a:r>
              <a:rPr b="0" lang="en-US" sz="2700" spc="-1" strike="noStrike">
                <a:solidFill>
                  <a:srgbClr val="000000"/>
                </a:solidFill>
                <a:latin typeface="Lucida Sans Unicode"/>
              </a:rPr>
              <a:t>TNF</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lirijum kao – disbalans neurotransmitera na terenu zapaljenja</a:t>
            </a:r>
            <a:endParaRPr b="0" lang="en-US" sz="2700" spc="-1" strike="noStrike">
              <a:solidFill>
                <a:srgbClr val="000000"/>
              </a:solidFill>
              <a:latin typeface="Lucida Sans Unicode"/>
            </a:endParaRPr>
          </a:p>
        </p:txBody>
      </p:sp>
      <p:pic>
        <p:nvPicPr>
          <p:cNvPr id="40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prema kome dijagnozu delirijuma možemo postaviti ukoliko pacijent ima pozitivna prva tri i jedan od poslednja dva kriterijum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1. akutni početak promena mentalnog status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2. fluktuirajući tok</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3. poremećaj pažnj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4. dezorganizovano mišljenj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5. izmenjeno stanje svesti</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Lucida Sans Unicode"/>
              </a:rPr>
              <a:t>I lekari netrenirani u psihijatrijskom smislu mogu koristiti ove skale, odgovarajući na potrebna pitanja. Ovakav način definisanja delirijuma ima visoku senzitivnost (94-100%) i specifičnost od 90-95%).</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9" name="Title 2" descr=""/>
          <p:cNvPicPr/>
          <p:nvPr/>
        </p:nvPicPr>
        <p:blipFill>
          <a:blip r:embed="rId1"/>
          <a:stretch/>
        </p:blipFill>
        <p:spPr>
          <a:xfrm>
            <a:off x="298440" y="85680"/>
            <a:ext cx="8394840" cy="145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1) AKUTNI POČETAK MENTALNIH PROMENA I FLUKTUIRAJUĆI TOK</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postoji podatak o akutnoj promeni mentalnog statusa u odnosu na bazično stanje?</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2) FLUKTUIRANJE SIMPTOMA</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je izmenjeno ponašanje fluktiralo poslednja 24 časa, osnono da li postoji podatak o izmeni težine promene ponašanja?</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3) PAŽNJA</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pacijent ima problem da fokusira pažnju?</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postoji umanjena sposobnost da održi ili prebacuje pažnju sa jednog intere­snog događaja na drugi?</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4) DEZORGANIZOVANO MIŠLJENJE</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je pacijentovo mišljenje dezorganizovano i nekoherentno, kao što je nebitna konverzacija, nelogičan i nejasan pritok ideja, nepredviljivo prelaženje sa jednog događaja ili teme na drugu?</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5) IZMENJENO STANJE SVEST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Lucida Sans Unicode"/>
              </a:rPr>
              <a:t>Da li je pacient u stanju da prati naredbe za vreme pregleda? </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 IZMENJENI KRVOTOK MOZG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ipotenz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ipertenz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Aritm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Bradikard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Kardijalna insuficijenc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Šok</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iperviskozite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Trauma moz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Epilepsija i postiktalna stanj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nfekcij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Meningiti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Apsc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Encefaliti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Neurosifili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Tumor</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Cerebralni vaskulitis</a:t>
            </a:r>
            <a:r>
              <a:rPr b="1" lang="sr-Latn-RS" sz="2300" spc="-1" strike="noStrike">
                <a:solidFill>
                  <a:srgbClr val="000000"/>
                </a:solidFill>
                <a:latin typeface="Lucida Sans Unicode"/>
              </a:rPr>
              <a:t>, </a:t>
            </a:r>
            <a:r>
              <a:rPr b="1" lang="hr-HR" sz="2300" spc="-1" strike="noStrike">
                <a:solidFill>
                  <a:srgbClr val="000000"/>
                </a:solidFill>
                <a:latin typeface="Lucida Sans Unicode"/>
              </a:rPr>
              <a:t>paraneoplastički i limbički vaskuliti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nfarkt</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Subduralni hematom</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Subarahnoidalno krvavljenje</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ipofiz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aratireoide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ireoide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Nadbubre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7" name="Title 2" descr=""/>
          <p:cNvPicPr/>
          <p:nvPr/>
        </p:nvPicPr>
        <p:blipFill>
          <a:blip r:embed="rId1"/>
          <a:stretch/>
        </p:blipFill>
        <p:spPr>
          <a:xfrm>
            <a:off x="225360" y="92160"/>
            <a:ext cx="846792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epatička encefalopat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Ur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ksija, hipokapn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ili hiperglik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i hipernatr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i hiperkal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Akutni pankreatiti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a:t>
            </a:r>
            <a:r>
              <a:rPr b="1" lang="sr-Latn-RS" sz="1900" spc="-1" strike="noStrike">
                <a:solidFill>
                  <a:srgbClr val="000000"/>
                </a:solidFill>
                <a:latin typeface="Lucida Sans Unicode"/>
              </a:rPr>
              <a:t>i</a:t>
            </a:r>
            <a:r>
              <a:rPr b="1" lang="en-US" sz="1900" spc="-1" strike="noStrike">
                <a:solidFill>
                  <a:srgbClr val="000000"/>
                </a:solidFill>
                <a:latin typeface="Lucida Sans Unicode"/>
              </a:rPr>
              <a:t> hiperkalc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a:t>
            </a:r>
            <a:r>
              <a:rPr b="1" lang="sr-Latn-RS" sz="1900" spc="-1" strike="noStrike">
                <a:solidFill>
                  <a:srgbClr val="000000"/>
                </a:solidFill>
                <a:latin typeface="Lucida Sans Unicode"/>
              </a:rPr>
              <a:t>i</a:t>
            </a:r>
            <a:r>
              <a:rPr b="1" lang="en-US" sz="1900" spc="-1" strike="noStrike">
                <a:solidFill>
                  <a:srgbClr val="000000"/>
                </a:solidFill>
                <a:latin typeface="Lucida Sans Unicode"/>
              </a:rPr>
              <a:t> hipermagnez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o </a:t>
            </a:r>
            <a:r>
              <a:rPr b="1" lang="sr-Latn-RS" sz="1900" spc="-1" strike="noStrike">
                <a:solidFill>
                  <a:srgbClr val="000000"/>
                </a:solidFill>
                <a:latin typeface="Lucida Sans Unicode"/>
              </a:rPr>
              <a:t>i</a:t>
            </a:r>
            <a:r>
              <a:rPr b="1" lang="en-US" sz="1900" spc="-1" strike="noStrike">
                <a:solidFill>
                  <a:srgbClr val="000000"/>
                </a:solidFill>
                <a:latin typeface="Lucida Sans Unicode"/>
              </a:rPr>
              <a:t> hiperfosfatem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iperosmolarna stan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Porfir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Deficit tiamin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Malnutricija</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Poremećaj acido-bazne ravnoteže</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419" name="Title 2" descr=""/>
          <p:cNvPicPr/>
          <p:nvPr/>
        </p:nvPicPr>
        <p:blipFill>
          <a:blip r:embed="rId1"/>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6" descr=""/>
          <p:cNvPicPr/>
          <p:nvPr/>
        </p:nvPicPr>
        <p:blipFill>
          <a:blip r:embed="rId1"/>
          <a:stretch/>
        </p:blipFill>
        <p:spPr>
          <a:xfrm>
            <a:off x="0" y="1241280"/>
            <a:ext cx="9144000" cy="4375440"/>
          </a:xfrm>
          <a:prstGeom prst="rect">
            <a:avLst/>
          </a:prstGeom>
          <a:ln w="0">
            <a:noFill/>
          </a:ln>
        </p:spPr>
      </p:pic>
      <p:pic>
        <p:nvPicPr>
          <p:cNvPr id="381" name="Title 1" descr=""/>
          <p:cNvPicPr/>
          <p:nvPr/>
        </p:nvPicPr>
        <p:blipFill>
          <a:blip r:embed="rId2"/>
          <a:stretch/>
        </p:blipFill>
        <p:spPr>
          <a:xfrm>
            <a:off x="212760" y="328680"/>
            <a:ext cx="8493120" cy="1079280"/>
          </a:xfrm>
          <a:prstGeom prst="rect">
            <a:avLst/>
          </a:prstGeom>
          <a:ln w="0">
            <a:noFill/>
          </a:ln>
        </p:spPr>
      </p:pic>
      <p:sp>
        <p:nvSpPr>
          <p:cNvPr id="382" name=""/>
          <p:cNvSpPr txBox="1"/>
          <p:nvPr/>
        </p:nvSpPr>
        <p:spPr>
          <a:xfrm>
            <a:off x="-360" y="1916280"/>
            <a:ext cx="8675640" cy="43732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000000"/>
                </a:solidFill>
                <a:latin typeface="Baskerville Old Face"/>
              </a:rPr>
              <a:t>Учесталост</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АМС</a:t>
            </a:r>
            <a:r>
              <a:rPr b="0" lang="sr-Latn-CS" sz="2800" spc="-1" strike="noStrike">
                <a:solidFill>
                  <a:srgbClr val="000000"/>
                </a:solidFill>
                <a:latin typeface="Baskerville Old Face"/>
              </a:rPr>
              <a:t>-</a:t>
            </a:r>
            <a:r>
              <a:rPr b="0" lang="sr-BA" sz="2800" spc="-1" strike="noStrike">
                <a:solidFill>
                  <a:srgbClr val="000000"/>
                </a:solidFill>
                <a:latin typeface="Baskerville Old Face"/>
              </a:rPr>
              <a:t>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у</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општим</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болницам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износи</a:t>
            </a:r>
            <a:r>
              <a:rPr b="0" lang="sr-Latn-CS" sz="2800" spc="-1" strike="noStrike">
                <a:solidFill>
                  <a:srgbClr val="000000"/>
                </a:solidFill>
                <a:latin typeface="Baskerville Old Face"/>
              </a:rPr>
              <a:t> 5 – 15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000000"/>
                </a:solidFill>
                <a:latin typeface="Baskerville Old Face"/>
              </a:rPr>
              <a:t>Учесталост</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АМС</a:t>
            </a:r>
            <a:r>
              <a:rPr b="0" lang="sr-Latn-CS" sz="2800" spc="-1" strike="noStrike">
                <a:solidFill>
                  <a:srgbClr val="000000"/>
                </a:solidFill>
                <a:latin typeface="Baskerville Old Face"/>
              </a:rPr>
              <a:t>-</a:t>
            </a:r>
            <a:r>
              <a:rPr b="0" lang="sr-BA" sz="2800" spc="-1" strike="noStrike">
                <a:solidFill>
                  <a:srgbClr val="000000"/>
                </a:solidFill>
                <a:latin typeface="Baskerville Old Face"/>
              </a:rPr>
              <a:t>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у</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ЈИН</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н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хирушким</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одељењим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је</a:t>
            </a:r>
            <a:r>
              <a:rPr b="0" lang="sr-Latn-CS" sz="2800" spc="-1" strike="noStrike">
                <a:solidFill>
                  <a:srgbClr val="000000"/>
                </a:solidFill>
                <a:latin typeface="Baskerville Old Face"/>
              </a:rPr>
              <a:t> 18 – 30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000000"/>
                </a:solidFill>
                <a:latin typeface="Baskerville Old Face"/>
              </a:rPr>
              <a:t>Учесталост</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АМС</a:t>
            </a:r>
            <a:r>
              <a:rPr b="0" lang="sr-Latn-CS" sz="2800" spc="-1" strike="noStrike">
                <a:solidFill>
                  <a:srgbClr val="000000"/>
                </a:solidFill>
                <a:latin typeface="Baskerville Old Face"/>
              </a:rPr>
              <a:t>-</a:t>
            </a:r>
            <a:r>
              <a:rPr b="0" lang="sr-BA" sz="2800" spc="-1" strike="noStrike">
                <a:solidFill>
                  <a:srgbClr val="000000"/>
                </a:solidFill>
                <a:latin typeface="Baskerville Old Face"/>
              </a:rPr>
              <a:t>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у</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коронарним</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ЈИН</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износи</a:t>
            </a:r>
            <a:r>
              <a:rPr b="0" lang="sr-Latn-CS" sz="2800" spc="-1" strike="noStrike">
                <a:solidFill>
                  <a:srgbClr val="000000"/>
                </a:solidFill>
                <a:latin typeface="Baskerville Old Face"/>
              </a:rPr>
              <a:t> 2 – 20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000000"/>
                </a:solidFill>
                <a:latin typeface="Baskerville Old Face"/>
              </a:rPr>
              <a:t>Учесталост</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АМС</a:t>
            </a:r>
            <a:r>
              <a:rPr b="0" lang="sr-Latn-CS" sz="2800" spc="-1" strike="noStrike">
                <a:solidFill>
                  <a:srgbClr val="000000"/>
                </a:solidFill>
                <a:latin typeface="Baskerville Old Face"/>
              </a:rPr>
              <a:t>-</a:t>
            </a:r>
            <a:r>
              <a:rPr b="0" lang="sr-BA" sz="2800" spc="-1" strike="noStrike">
                <a:solidFill>
                  <a:srgbClr val="000000"/>
                </a:solidFill>
                <a:latin typeface="Baskerville Old Face"/>
              </a:rPr>
              <a:t>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после</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хирушких</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захват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на</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срцу</a:t>
            </a:r>
            <a:r>
              <a:rPr b="0" lang="sr-Latn-CS" sz="2800" spc="-1" strike="noStrike">
                <a:solidFill>
                  <a:srgbClr val="000000"/>
                </a:solidFill>
                <a:latin typeface="Baskerville Old Face"/>
              </a:rPr>
              <a:t> </a:t>
            </a:r>
            <a:r>
              <a:rPr b="0" lang="sr-BA" sz="2800" spc="-1" strike="noStrike">
                <a:solidFill>
                  <a:srgbClr val="000000"/>
                </a:solidFill>
                <a:latin typeface="Baskerville Old Face"/>
              </a:rPr>
              <a:t>је</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и</a:t>
            </a:r>
            <a:r>
              <a:rPr b="0" lang="sr-Latn-CS" sz="2800" spc="-1" strike="noStrike">
                <a:solidFill>
                  <a:srgbClr val="000000"/>
                </a:solidFill>
                <a:latin typeface="Baskerville Old Face"/>
              </a:rPr>
              <a:t> </a:t>
            </a:r>
            <a:r>
              <a:rPr b="0" lang="sr-BA" sz="2800" spc="-1" strike="noStrike">
                <a:solidFill>
                  <a:srgbClr val="000000"/>
                </a:solidFill>
                <a:latin typeface="Baskerville Old Face"/>
              </a:rPr>
              <a:t>до</a:t>
            </a:r>
            <a:r>
              <a:rPr b="0" lang="sr-Latn-CS" sz="2800" spc="-1" strike="noStrike">
                <a:solidFill>
                  <a:srgbClr val="000000"/>
                </a:solidFill>
                <a:latin typeface="Baskerville Old Face"/>
              </a:rPr>
              <a:t> 30 % </a:t>
            </a:r>
            <a:endParaRPr b="0" lang="en-US" sz="2800" spc="-1" strike="noStrike">
              <a:solidFill>
                <a:srgbClr val="000000"/>
              </a:solidFill>
              <a:latin typeface="Lucida Sans Unicode"/>
            </a:endParaRPr>
          </a:p>
        </p:txBody>
      </p:sp>
      <p:sp>
        <p:nvSpPr>
          <p:cNvPr id="383" name="TextBox 5"/>
          <p:cNvSpPr/>
          <p:nvPr/>
        </p:nvSpPr>
        <p:spPr>
          <a:xfrm>
            <a:off x="571680" y="3143160"/>
            <a:ext cx="7643520" cy="36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5. SISTEMSKA INFEKCIJA SA TEMPERATUROM I SEPSOM</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6. TROVAN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gljen monoksi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gljen disulfi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Organski rastvarač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eški metal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7. STANJA KOD KOMPROMITOVANIH BOLESNIK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Bilo koja infekcija (čak i lokal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farkt miokard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lućna embol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erforacija abdominalnih orga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ostoperativna stanj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0" y="620640"/>
            <a:ext cx="8686800" cy="5386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Posebne probleme u diferencijalnoj dijagnozi delirijuma čini njegovo razlikovanje o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r>
              <a:rPr b="0" i="1" lang="hr-HR" sz="2700" spc="-1" strike="noStrike">
                <a:solidFill>
                  <a:srgbClr val="000000"/>
                </a:solidFill>
                <a:latin typeface="Lucida Sans Unicode"/>
              </a:rPr>
              <a:t>demencij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r>
              <a:rPr b="0" i="1" lang="hr-HR" sz="2700" spc="-1" strike="noStrike">
                <a:solidFill>
                  <a:srgbClr val="000000"/>
                </a:solidFill>
                <a:latin typeface="Lucida Sans Unicode"/>
              </a:rPr>
              <a:t>depresij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r>
              <a:rPr b="0" i="1" lang="hr-HR" sz="2700" spc="-1" strike="noStrike">
                <a:solidFill>
                  <a:srgbClr val="000000"/>
                </a:solidFill>
                <a:latin typeface="Lucida Sans Unicode"/>
              </a:rPr>
              <a:t>poremećaja govor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700" spc="-1" strike="noStrike">
                <a:solidFill>
                  <a:srgbClr val="000000"/>
                </a:solidFill>
                <a:latin typeface="Lucida Sans Unicode"/>
              </a:rPr>
              <a:t>	</a:t>
            </a:r>
            <a:r>
              <a:rPr b="0" i="1" lang="hr-HR" sz="2700" spc="-1" strike="noStrike">
                <a:solidFill>
                  <a:srgbClr val="000000"/>
                </a:solidFill>
                <a:latin typeface="Lucida Sans Unicode"/>
              </a:rPr>
              <a:t>shizofrenije.</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ada"/>
        </a:solidFill>
      </p:bgPr>
    </p:bg>
    <p:spTree>
      <p:nvGrpSpPr>
        <p:cNvPr id="1" name=""/>
        <p:cNvGrpSpPr/>
        <p:nvPr/>
      </p:nvGrpSpPr>
      <p:grpSpPr>
        <a:xfrm>
          <a:off x="0" y="0"/>
          <a:ext cx="0" cy="0"/>
          <a:chOff x="0" y="0"/>
          <a:chExt cx="0" cy="0"/>
        </a:xfrm>
      </p:grpSpPr>
      <p:pic>
        <p:nvPicPr>
          <p:cNvPr id="425" name="Content Placeholder 3" descr="Dzin sa Uskrsnjih ostrva.jpg"/>
          <p:cNvPicPr/>
          <p:nvPr/>
        </p:nvPicPr>
        <p:blipFill>
          <a:blip r:embed="rId1"/>
          <a:stretch/>
        </p:blipFill>
        <p:spPr>
          <a:xfrm>
            <a:off x="3516480" y="1944720"/>
            <a:ext cx="2111040" cy="3598920"/>
          </a:xfrm>
          <a:prstGeom prst="rect">
            <a:avLst/>
          </a:prstGeom>
          <a:ln w="9360">
            <a:solidFill>
              <a:srgbClr val="0d0d0d"/>
            </a:solidFill>
            <a:miter/>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etman delirantnog bolesnika ima dva važna i odvojena aspekt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vi je kritičan i direktno je vezan za preživljavanje bolesnika: identifikacija i kad god je moguće otklanjanje uzroka delirijuma. Drugi aspekt tretmana je redukcija simptoma delirijuma pomoću medikamenata i manipulacijom sredinskim faktorima bez obzira na to da li su sumanutosti ili agitacija prisutni.</a:t>
            </a:r>
            <a:endParaRPr b="0" lang="en-US" sz="2700" spc="-1" strike="noStrike">
              <a:solidFill>
                <a:srgbClr val="000000"/>
              </a:solidFill>
              <a:latin typeface="Lucida Sans Unicode"/>
            </a:endParaRPr>
          </a:p>
        </p:txBody>
      </p:sp>
      <p:pic>
        <p:nvPicPr>
          <p:cNvPr id="42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snovno pravilo je da se delirantni bolesnik mora staviti na 24h neprekidni nadzor tj. bolesnik mora biti smešten na intenzivnu negu. Ukoliko je neophodno ne treba izbegavati mere fizičke fiksacije bolesnika. Pri tome se vitalni znaci, unos tečnosti i diureza moraju kontrolisati. Takođe dobra oksigenacija bolesnika mora biti obezbeđena. </a:t>
            </a:r>
            <a:endParaRPr b="0" lang="en-US" sz="2700" spc="-1" strike="noStrike">
              <a:solidFill>
                <a:srgbClr val="000000"/>
              </a:solidFill>
              <a:latin typeface="Lucida Sans Unicode"/>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sebno treba pomenuti suportativne mere: konstantnu reorijentaciju bolesnika (uloga medicinskog osoblja ali i rodbin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bro osvetljenje sobe tokom noći može povoljno uticati n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rozori u sobi pomažu u orijentaciji u vremenu. Iako delirantnog bolesnika nikada ne treba staviti u jednokrevetnu sobu česta greška je držanje više delirantnih bolesnika u istoj sobi. Reorijentacija u takvim slučajevima je mnogo teža a konfuzni bolesnici međusobno "podržavaju" distorziju realiteta. </a:t>
            </a:r>
            <a:endParaRPr b="0" lang="en-US" sz="2500" spc="-1" strike="noStrike">
              <a:solidFill>
                <a:srgbClr val="000000"/>
              </a:solidFill>
              <a:latin typeface="Lucida Sans Unicode"/>
            </a:endParaRPr>
          </a:p>
        </p:txBody>
      </p:sp>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sihološka podrška tokom i nakon delirantne epizode je važna. Prisustvo mirnog člana porodice može donekle smanjiti paranoidne ideje bolesnika. Nakon okončanja delirijuma neophodno je pomoći bolesniku da razume svoje bizarno iskustvo. Ovde je posebno potrebno istaći prolaznost delirijuma kao i učestalost delirijuma kod somatski obolelih bolesnika</a:t>
            </a:r>
            <a:endParaRPr b="0" lang="en-US" sz="2700" spc="-1" strike="noStrike">
              <a:solidFill>
                <a:srgbClr val="000000"/>
              </a:solidFill>
              <a:latin typeface="Lucida Sans Unicode"/>
            </a:endParaRPr>
          </a:p>
        </p:txBody>
      </p:sp>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d medikamenata lek prvog izbora je </a:t>
            </a:r>
            <a:r>
              <a:rPr b="0" lang="sr-Latn-CS" sz="2700" spc="-1" strike="noStrike">
                <a:solidFill>
                  <a:srgbClr val="000000"/>
                </a:solidFill>
                <a:latin typeface="Lucida Sans Unicode"/>
              </a:rPr>
              <a:t>РИСПЕРИДОН</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zlog je njegovo snažno antipsihotično dejstvo uz praktično odsustvo antiholinergičkih i hipotenzivnih dejstava. </a:t>
            </a:r>
            <a:r>
              <a:rPr b="0" lang="sr-Latn-CS" sz="2700" spc="-1" strike="noStrike">
                <a:solidFill>
                  <a:srgbClr val="000000"/>
                </a:solidFill>
                <a:latin typeface="Lucida Sans Unicode"/>
              </a:rPr>
              <a:t>РИСПЕРИДОН</a:t>
            </a:r>
            <a:r>
              <a:rPr b="0" lang="en-US" sz="2700" spc="-1" strike="noStrike">
                <a:solidFill>
                  <a:srgbClr val="000000"/>
                </a:solidFill>
                <a:latin typeface="Lucida Sans Unicode"/>
              </a:rPr>
              <a:t> je podjednako efikasan i kod hipo i kod hiperaktivnog oblika delirijum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Lucida Sans Unicode"/>
              </a:rPr>
              <a:t>Даје се у малим дозама до 2мг/д уз могућност повећања дозе у ретким случајевима уз опрез</a:t>
            </a:r>
            <a:endParaRPr b="0" lang="en-US" sz="2700" spc="-1" strike="noStrike">
              <a:solidFill>
                <a:srgbClr val="000000"/>
              </a:solidFill>
              <a:latin typeface="Lucida Sans Unicode"/>
            </a:endParaRPr>
          </a:p>
        </p:txBody>
      </p:sp>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R 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AMUSKULARN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AVENSKI (nije odobreno od strane FD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Za kontrolu teške agitacije i konfuzije ponekad je potrebna </a:t>
            </a:r>
            <a:r>
              <a:rPr b="0" lang="sr-Latn-CS" sz="2400" spc="-1" strike="noStrike">
                <a:solidFill>
                  <a:srgbClr val="000000"/>
                </a:solidFill>
                <a:latin typeface="Lucida Sans Unicode"/>
              </a:rPr>
              <a:t>primena </a:t>
            </a:r>
            <a:r>
              <a:rPr b="0" lang="en-US" sz="2400" spc="-1" strike="noStrike">
                <a:solidFill>
                  <a:srgbClr val="000000"/>
                </a:solidFill>
                <a:latin typeface="Lucida Sans Unicode"/>
              </a:rPr>
              <a:t>haloperidola</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Lucida Sans Unicode"/>
              </a:rPr>
              <a:t>Do 2 mg dnevno početno a retko i do 10mg/max.</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Lucida Sans Unicode"/>
              </a:rPr>
              <a:t>Parenteralno do 10mg dnevno i.m.</a:t>
            </a:r>
            <a:endParaRPr b="0" lang="en-US" sz="2400" spc="-1" strike="noStrike">
              <a:solidFill>
                <a:srgbClr val="000000"/>
              </a:solidFill>
              <a:latin typeface="Lucida Sans Unicode"/>
            </a:endParaRPr>
          </a:p>
          <a:p>
            <a:pPr marL="365040" indent="-2556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Fernandez et al. 1988; J.L. Levenson 1995;</a:t>
            </a:r>
            <a:endParaRPr b="0" lang="en-US" sz="1400" spc="-1" strike="noStrike">
              <a:solidFill>
                <a:srgbClr val="000000"/>
              </a:solidFill>
              <a:latin typeface="Lucida Sans Unicode"/>
            </a:endParaRPr>
          </a:p>
          <a:p>
            <a:pPr marL="365040" indent="-2556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iker et al. 1994; Stern 1994.</a:t>
            </a:r>
            <a:endParaRPr b="0" lang="en-US" sz="1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8"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6" descr=""/>
          <p:cNvPicPr/>
          <p:nvPr/>
        </p:nvPicPr>
        <p:blipFill>
          <a:blip r:embed="rId1"/>
          <a:stretch/>
        </p:blipFill>
        <p:spPr>
          <a:xfrm>
            <a:off x="0" y="1241280"/>
            <a:ext cx="9144000" cy="4375440"/>
          </a:xfrm>
          <a:prstGeom prst="rect">
            <a:avLst/>
          </a:prstGeom>
          <a:ln w="0">
            <a:noFill/>
          </a:ln>
        </p:spPr>
      </p:pic>
      <p:pic>
        <p:nvPicPr>
          <p:cNvPr id="385" name="Rectangle 2" descr=""/>
          <p:cNvPicPr/>
          <p:nvPr/>
        </p:nvPicPr>
        <p:blipFill>
          <a:blip r:embed="rId2"/>
          <a:stretch/>
        </p:blipFill>
        <p:spPr>
          <a:xfrm>
            <a:off x="219240" y="268200"/>
            <a:ext cx="8474040" cy="1158840"/>
          </a:xfrm>
          <a:prstGeom prst="rect">
            <a:avLst/>
          </a:prstGeom>
          <a:ln w="0">
            <a:noFill/>
          </a:ln>
        </p:spPr>
      </p:pic>
      <p:sp>
        <p:nvSpPr>
          <p:cNvPr id="386" name="PlaceHolder 1"/>
          <p:cNvSpPr>
            <a:spLocks noGrp="1"/>
          </p:cNvSpPr>
          <p:nvPr>
            <p:ph/>
          </p:nvPr>
        </p:nvSpPr>
        <p:spPr>
          <a:xfrm>
            <a:off x="0" y="1599840"/>
            <a:ext cx="9144000" cy="5257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00"/>
                </a:solidFill>
                <a:latin typeface="Lucida Sans Unicode"/>
              </a:rPr>
              <a:t> </a:t>
            </a:r>
            <a:r>
              <a:rPr b="0" lang="sr-CS" sz="2400" spc="-1" strike="noStrike">
                <a:solidFill>
                  <a:srgbClr val="000000"/>
                </a:solidFill>
                <a:latin typeface="Arial"/>
              </a:rPr>
              <a:t>АМС је реакција мозга на ненормалне услове у којима функционише, тако да сви фактори који мењају односе у ЦНС-у могу бити потенцијални фактори његовог настанка.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ао најчешћи узрочници истичу се: физичке и хемијске ноксе, токсично деловање микроорганизама, поремећаји метаболизма и општа телесна обољења, као и оштећења ЦНС-а различите етиологије</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У процесу избијања психотичних симптома улогу играју: степен оштећења мозга, локализација и брзина деловања патолошког чиниоца, преморбидна личност, животна доб и стање одбрамбених снага организма оболелог           ( М. </a:t>
            </a:r>
            <a:r>
              <a:rPr b="0" lang="sr-Latn-CS" sz="2400" spc="-1" strike="noStrike">
                <a:solidFill>
                  <a:srgbClr val="000000"/>
                </a:solidFill>
                <a:latin typeface="Arial"/>
              </a:rPr>
              <a:t>Bleuler</a:t>
            </a:r>
            <a:r>
              <a:rPr b="0" lang="sr-CS" sz="2400" spc="-1" strike="noStrike">
                <a:solidFill>
                  <a:srgbClr val="000000"/>
                </a:solidFill>
                <a:latin typeface="Arial"/>
              </a:rPr>
              <a:t>, 1945)</a:t>
            </a:r>
            <a:endParaRPr b="0" lang="en-US" sz="24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3d8"/>
        </a:solidFill>
      </p:bgPr>
    </p:bg>
    <p:spTree>
      <p:nvGrpSpPr>
        <p:cNvPr id="1" name=""/>
        <p:cNvGrpSpPr/>
        <p:nvPr/>
      </p:nvGrpSpPr>
      <p:grpSpPr>
        <a:xfrm>
          <a:off x="0" y="0"/>
          <a:ext cx="0" cy="0"/>
          <a:chOff x="0" y="0"/>
          <a:chExt cx="0" cy="0"/>
        </a:xfrm>
      </p:grpSpPr>
      <p:pic>
        <p:nvPicPr>
          <p:cNvPr id="439" name="Content Placeholder 3" descr="Optofon.jpg"/>
          <p:cNvPicPr/>
          <p:nvPr/>
        </p:nvPicPr>
        <p:blipFill>
          <a:blip r:embed="rId1"/>
          <a:stretch/>
        </p:blipFill>
        <p:spPr>
          <a:xfrm>
            <a:off x="1763640" y="1700280"/>
            <a:ext cx="5688000" cy="4176720"/>
          </a:xfrm>
          <a:prstGeom prst="rect">
            <a:avLst/>
          </a:prstGeom>
          <a:ln w="0">
            <a:noFill/>
          </a:ln>
        </p:spPr>
      </p:pic>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nzodiazepini su lekovi prvog izbora u tretmanu alkoholnog delirijum tremensa kao i delirijuma usled apstinencijalne krize na sedative/hipnotike. U svim ostalim slučajevima sedacija i blago oštećenje kognicije do koga dovode benzodiazepini može dodatno kompromitovati bolesnikov senzorijum ili dezinhibisati njegovo ponašanje. </a:t>
            </a:r>
            <a:endParaRPr b="0" lang="en-US" sz="2700" spc="-1" strike="noStrike">
              <a:solidFill>
                <a:srgbClr val="000000"/>
              </a:solidFill>
              <a:latin typeface="Lucida Sans Unicode"/>
            </a:endParaRPr>
          </a:p>
        </p:txBody>
      </p:sp>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Zbog toga uz gore navedene izuzetke benzodiazepini se ne preporučuju kao samostalni agensi u tretmanu delirijuma. Male doze intravenski administriranog lorazepama kao dodatak haloperidolu se posebno preporučuju kod krajnje agitiranih bolesnika ili bolesnika koji ne pokazuju zadovoljavajućI odgovor na administraciju haloperido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shod delirijuma je krajnje varijabilan. Mogućnosti su: progresija u sopor, komu i smr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zvoj epilepsij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zvoj encefalopatije ili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zbistravanje svesti i rezolucija simptomatologij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 sreću većina bolesnika sa delirijumom pokazuje potpuni oporavak</a:t>
            </a:r>
            <a:endParaRPr b="0" lang="en-US" sz="2700" spc="-1" strike="noStrike">
              <a:solidFill>
                <a:srgbClr val="000000"/>
              </a:solidFill>
              <a:latin typeface="Lucida Sans Unicode"/>
            </a:endParaRPr>
          </a:p>
        </p:txBody>
      </p:sp>
      <p:pic>
        <p:nvPicPr>
          <p:cNvPr id="44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pak, što je oboleli stariji mogućnost ovakvog ishoda je sve manja dok je razvoj erzistentnog kognitivnog defekta sve češćI isho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eba napomenuti da su kompilkacije kod delirantnih bolesnika pre pravilo nego izuzetak. Tako je Inouye pokazao da je rizik od komplikacija, poput nastanka dekubitusa ili aspiracione pneumonije kod ovih bolesnika čak 6 puta veći nego kod ostalih. </a:t>
            </a:r>
            <a:endParaRPr b="0" lang="en-US" sz="2700" spc="-1" strike="noStrike">
              <a:solidFill>
                <a:srgbClr val="000000"/>
              </a:solidFill>
              <a:latin typeface="Lucida Sans Unicode"/>
            </a:endParaRPr>
          </a:p>
        </p:txBody>
      </p:sp>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Konačno delirantni bolesnici tokom epizode delirijuma imaju čak 5.5 puta veću stopu mortaliteta nego bolesnici sa dijagnozom demencij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žalost bolesnici koji prežive delirijum pokazuju visoku stopu smrtnosti i u narednim mesecim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pokrat opisuje delirijum 4 vek pre n.e. Marcus Aurelius Antoninus 2 vek n.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phrenitis  Stara Grčka, Ri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pic>
        <p:nvPicPr>
          <p:cNvPr id="389" name="Picture 3" descr="Skica 1.jpg"/>
          <p:cNvPicPr/>
          <p:nvPr/>
        </p:nvPicPr>
        <p:blipFill>
          <a:blip r:embed="rId1"/>
          <a:stretch/>
        </p:blipFill>
        <p:spPr>
          <a:xfrm>
            <a:off x="2050920" y="3141720"/>
            <a:ext cx="568980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i moždani sindro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o konfuzno stanj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infektivna psihoz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organska reakcij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organska psihoz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sekundarna psihoz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i psihoorganski sindro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kutna demencij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reverzibilna demencij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egzogena psihoz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sihoza jedinice intenzivne nege (Intensive care unit psychosis -ICU),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ksično konfuzno stanje,</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tabolička encefalopat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ksična encefalopat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posttraumatska amnez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reverzibilna cerebralna disfunkc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disergatična reakcija,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oniričko stanje...</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lirijum se opisuje kao " sindrom karakterisan istovremenim poremećajima svesti i pažnje, percepcije, mišljenja, pamćenja, psihomotornog ponašanja, emocija i ciklusa spavanje-budno stanje</a:t>
            </a:r>
            <a:endParaRPr b="0" lang="en-US" sz="2700" spc="-1" strike="noStrike">
              <a:solidFill>
                <a:srgbClr val="000000"/>
              </a:solidFill>
              <a:latin typeface="Lucida Sans Unicode"/>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 toku delirijuma se navodi da je reč o prolaznom stanju fluktuirajućeg intenziteta te da se najveći broj slučajeva oporavlja za četiri nedelje ili manje, iako nisu retki ni delirijumi koji traju sa fluktuacijama i do šest meseci. Pri tome se dugotrajan tok delirijuma naročito apostrofira kod hroničnih oboljenja jetre, karcinoma ili subakutnog bakterijskog endokarditisa</a:t>
            </a:r>
            <a:endParaRPr b="0" lang="en-US" sz="2700" spc="-1" strike="noStrike">
              <a:solidFill>
                <a:srgbClr val="000000"/>
              </a:solidFill>
              <a:latin typeface="Lucida Sans Unicode"/>
            </a:endParaRPr>
          </a:p>
        </p:txBody>
      </p:sp>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ma dijagnoza se postavlja na osnovu sledećih simptom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remećaj svesti na kontinuumu od pomućenja svesti i pažnje do kome, snižena sposobnost upravljanja, fokusiranja, održavanja i prebacivanja pažnj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6T21:33:17Z</dcterms:created>
  <dc:creator>Srdjan</dc:creator>
  <dc:description/>
  <dc:language>en-US</dc:language>
  <cp:lastModifiedBy>Slavica</cp:lastModifiedBy>
  <dcterms:modified xsi:type="dcterms:W3CDTF">2020-09-28T11:53:35Z</dcterms:modified>
  <cp:revision>22</cp:revision>
  <dc:subject/>
  <dc:title>DELIRIJUM, DIJAGNOZA, DIFERENCIJALNA DIJAGNOZA, LEČENJE</dc:title>
</cp:coreProperties>
</file>